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CF426-F066-47A9-A39B-5E33AE325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DAF51-1941-4AC9-810C-CCD848C2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AC69C-BD13-4C26-BE86-0A5305878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0C1E2-1E0B-4C01-B9E5-B67C04811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773C-59E5-4BE3-B2EE-4D60AA9D1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DEB0-4FAE-430E-9A5B-1DCEB0D0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A1E2-E0FE-4885-B78E-6606AB82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FF3C-679B-4975-8EE8-395F0148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C5D2-2A26-4585-ADF2-FB4CB34E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94D7-6C69-4EA8-B1DB-AB261956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AF70-0107-4EF4-9F60-C4107C01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7C160-496C-4334-8C2D-FF2B4C2B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2793-B451-4E91-BEC7-907C73C0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D90D-B0B2-40CF-A804-6171860C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0FBD-7F97-4B29-A07C-BBC28AEF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A9D6-520E-4AA2-8F72-7AD9EE43B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9EDE-EA04-487D-9D68-9DA5636AC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67979-D1B6-4EA8-A974-B3947504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DF24F-F3A6-491D-81D5-804025CC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2E989-69D4-4EBC-B82F-87FF9BD2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9AC2D-D79E-4CFE-9E33-0A50AAF7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AC036-8E69-4B02-800A-1EA601EF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B29BF-FEEF-48C1-B722-744812AE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5CBEC-8B86-42AA-927F-88D349FA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8EE7-D671-4F4F-A581-E06D7EDBB4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C68E-AC42-4794-9922-EBF7201D0F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pereira@usp.br" TargetMode="External"/><Relationship Id="rId2" Type="http://schemas.openxmlformats.org/officeDocument/2006/relationships/hyperlink" Target="mailto:pereirace@uol.com.br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Escolha Social, Estratégia e Racionalidade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Uma Introdução à Teoria dos Jogos na Polí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ula 9 (17/10/2004)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Jogos de Repetição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ofessor: 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Carlos Perei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capereira@usp.b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pt-BR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pereirace@uol.com.b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licações dos jogos de repetição finito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m um jogo finito, em que o jogo-base é do tipo dilema do prisioneiro, não temos razão para acreditar que os jogadores adotaão estratégias cooperativ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doxo da Cadeia de Loja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393372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771640" y="3141360"/>
            <a:ext cx="107964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71640" y="4076640"/>
            <a:ext cx="122400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95640" y="3213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40000" y="4653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ão en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51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242100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deia de Lo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4643280" y="2565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43280" y="3141720"/>
            <a:ext cx="86544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0" y="2349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0,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4360" y="3645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,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2205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4720" y="3716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ão Lu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67280" y="450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dox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 se essa mesma situação tivesse que se repetir em por exemplo 15 cidades diferentes, não seria mais racional para a “Cadeia de Lojas” lutar em uma das cidades para estabelecer uma reputação de “dura” na competiçã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a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m sempre as recompensas dos jogadores, associadas às suas estratégias, são de conhecimento comum. Ou seja, além de ser um jogo de informação perfeita pode também ser de informação incomple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posição de que as interações são finitas são raramente verificáveis na real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 modelo mais adequado para esse tipo de análise seri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jogos infinitivamente repet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Equilíbrio Perfeito em Subjogos Repetidos Fini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lquer jogo repetido finit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vezes, em que o jogo base apresenta apenas um equilíbrio de Nash, possui um único equilíbrio de Nash perfeito em subjogos, o qual consiste em jogar o equilíbrio de Nash do jogo-base em todas as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tap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sso também é verdade no caso de um jogo repetido em que o jogo base apresenta mais de um equilíbrio de Nash. Ou seja, equilíbrios de Nash no jogo-base pode constituir equilíbrios de Nash perfeito em subjog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er exemplo das páginas 157 e 158. Jogos repetidos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ezes cujo o jogo-base possua mais de um equilíbrio de Nash podem ter equilíbrios de Nash perfeitos em sub-jogos que envolvam resultados, em alguma das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repetições do jogo-base, que não sejam equilíbrios de Nash do jogo-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jogo do cartel partidário simplificad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7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D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p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Coop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p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Coop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 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Subjogos do Jogo Repetido Finito do Cartel Partidá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8360" y="1700280"/>
          <a:ext cx="8229600" cy="49147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15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s da Primeira Eta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p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Coop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ogo a partir de {coopera, coopera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p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Coop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ogo a partir de {Não coopera, coopera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p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Coop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 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 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ogo a partir de {coopera, Não coopera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p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Coop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,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ogo a partir de {Não coopera, Não coopera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p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Coop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 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gos Infinitivamente Repet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rá que a indefinição de quando o jogo acaba é indutora de cooperação mesmo em situações que os ganhos de curto prazo pela não cooperação são maio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smo em interações estratégicas do tipo dilema do prisioneiro (onde o equilíbrio de Nash representa uma situação ineficiente do ótimo de pareto porque a não cooperação por parte de um jogador, enquanto os demais cooperam, geram recompensas de curto prazo maiores do que a cooperação) há uma boa possibilidade de se desenvolver cooperação desde que a interação entre os jogadores seja infini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mos analisar o jogo do cartel partidário como se os atores não soubessem quando ele acab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sses jogos precisamos descontar o valor futuro da manutenção do cartel. Ou seja, precisamos atualizar o valor futuro das repensas do jogo; ou seja, trazê-lo para o pres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 atores normalmente são avessos ao risco; ou seja, eles valorizam muito mais $1 hoje do que $1 amanhã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or de Desconto 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fator de desconto δ está associado a taxa de desconto (em geral à taxa de juros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 seguinte 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δ = 1/1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por exemplo se a taxa de juros é 5%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rá 0,05 e o fator de desconto será 1/(1,05) = 0,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do os jogadores aplicam uma taxa de descon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bre valores futuros, de tal forma qu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0, diz-se que os jogadores possue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ferências intertempora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 que é um jogo repetid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o o próprio nome indica, é um jogo que se repete em um número finito ou infinito de vezes. Ou seja, lidam com processos de interação estratégica que se desenrolam no tempo e, desse modo, possuem um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stór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jogo que se repete é conhecido como “jogo-base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ora os jogadores conheçam as decisões que foram tomadas nas etapas anteriores, a cada nova etapa os jogadores decidem sem conhecerem o que os demais jogadores estão decidindo naquela etap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fator de desconto δ pode ter outras dimensõ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ponha que um jogador saiba que existe uma dada probabilidade de cada repetição do jogo ser a última. Assuma, por exemplo, que esta probabilidade é de 5%. Assim, os jogadores saberiam que, a cada repetição, haveria uma chance de 5% de que o jogo se encerrasse ali. Se os jogadores não possuíssem preferências intertemporais, o fator de desconto expressaria apenas a probabilidade de que o jogo não continuasse no futuro.Teríamos então: δ = 1 – 0,05 = 0,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so os jogadores tivessem preferências intertemporais, sendo a probabilidade do jogo terminar a cada repetição dada por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e a taxa de desconto novamente dada  por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o fator de desconto δ seria dado por: δ = 1 –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1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ponha que um jogador receba por uma dada estratégia em um jogo infinitivamente repetido uma sucessão infinita de valores idênticos a $1. Teremos que aplicar a esses valores o fator de desconto δ da seguinte forma: o valor $1 recebido no período inicial não se aplica fator de desconto. A esse valor somamos ($1) X δ. Assim sucessivamen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 + 1δ + 1δ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+ 1δ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+ ... =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-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sa expressão é o valor presente; isto é, o valor descontado da série infinita de recompensas que é chamado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a + aδ + aδ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+ ... =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 1 –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os valores forem diferentes em cada etapa você pode tirar o valor médio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a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/ (1 – δ) =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ada repetição do jogo, as estratégias do jogo devem permanecer constantes. Ou seja, o que muda ao longo do processo de interação estratégica é a história do jogo; isto é, o registro de como os jogadores se comportaram até o pres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jogo é finito ou infini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atando-se de um jogo finito, quão distante uma dada etapa está do término do jog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 problema do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r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is são as dificuldades inerentes a sustentação do cart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cartel acontece quando atores com interesses semelhantes podem cooperar explícita ou implicitamente com o objetivo de obterem maiores retornos (empresas, coalizões políticas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 que cooperar com o grupo principalmente nas situações em que os retornos são maiores com a defecção no presen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is mecanismos que o cartel dispõe para evitar comportamentos desviantes e não cooperativos por algum de seus membros Quais são as dificuldades inerentes a sustentação do cart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jogo do cartel como jogo simultâne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7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resa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resa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p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Coop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p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, 1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, 1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Coop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, 1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, 1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es do jogo simultâne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do interações entre empresas (ou, por exemplo, partidos políticos) que convivem em um mesmo setor não ocorrem apenas uma ve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prática as empresas (e os partidos) interagem continuamente definindo a quantidade que será produzida de tal forma que a decisão de respeitar ou não a meta do cartel se repete ao longo do tem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 isso, precisamos de um outro jogo que dê conta dessa peculiarid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gos Repetidos Finit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uponha agora que dois partidos, PT e PMDB, tomam a decisão de votar de forma cooperativa em dois períod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uponha também que esses partidos decidem simultaneamente como votar no primeiro períod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segundo período, conhecendo como eles votaram no primeiro, os dois partidos voltam a decidir simultaneamente como vo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averá chances do Cartel partidário se sustentar ago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jogo do cartel como jogo simultâne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7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D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p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Coop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p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Coop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da a repetição, Indução Invers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que os partidos fariam na segunda etapa do jog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tando-se esta etapa como um jogo simultâneo, percebe-se que a escolha {não cooperar} gera resultados sempre melhores do que a escolha de ação {cooperar}. Assim, é razoável se supor que os partidos não irão coope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que os partidos fariam na primeira etapa do jogo? A opção cooperar na primeira etapa do jogo não poderia induzir cooperação na etapa seguin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o não ocorre, pois como não há nenhuma interação futura que justifique na segunda e última etapa do jogo. A conseqüência é que a cooperação não ocorre em nenhuma das etapas desse jogo e o cartel político não se sustenta em nenhum mo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e mesmo resultado seria obtido mesmo que o jogo fosse jogado 100 vezes, pois na centésima e última vez os partidos não teriam incentivo para cooperar uma vez que isso não induziria qualquer cooperação futura (ex. governos de coalizã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4:19:06Z</dcterms:created>
  <dc:creator>Carlos Pereira</dc:creator>
  <dc:description/>
  <dc:language>en-US</dc:language>
  <cp:lastModifiedBy>Carlos Pereira</cp:lastModifiedBy>
  <dcterms:modified xsi:type="dcterms:W3CDTF">2004-10-27T15:29:25Z</dcterms:modified>
  <cp:revision>36</cp:revision>
  <dc:subject/>
  <dc:title>Escolha Social, Estratégia e Racionalidade:  Uma Introdução à Teoria dos Jogos na Políti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06669424</vt:r8>
  </property>
  <property fmtid="{D5CDD505-2E9C-101B-9397-08002B2CF9AE}" pid="3" name="_AuthorEmail">
    <vt:lpwstr>capereira@usp.br</vt:lpwstr>
  </property>
  <property fmtid="{D5CDD505-2E9C-101B-9397-08002B2CF9AE}" pid="4" name="_AuthorEmailDisplayName">
    <vt:lpwstr>Carlos Pereira</vt:lpwstr>
  </property>
  <property fmtid="{D5CDD505-2E9C-101B-9397-08002B2CF9AE}" pid="5" name="_EmailSubject">
    <vt:lpwstr>Teoria dos Jogos Novas aulas</vt:lpwstr>
  </property>
</Properties>
</file>